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F67-8074-4DA8-9628-4AB803A7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5DA-9C89-41EF-A1B0-0F29DCD6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040-824E-43E9-B768-33A592F9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D64-6E98-4DE9-847E-E3715D1D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8605-EB83-4470-ACD1-5800483C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52B-8B61-4A15-8621-8389D1AC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697-5FA5-4E9C-B46B-DEAEA426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442-304D-44DC-989B-D323E83B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67C-135D-47F3-9F2D-42C5B332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48A-91F5-4A35-B5DD-D91BEA43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D90-5806-45CD-8159-E930E0DD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A8A-BCCE-442A-AD6A-06A72ED7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E4AD-9A7C-46AE-BF81-65D84D08F1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y Cho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ggling school work, athletics, a part-time job, and social life with friends, it’s no wonder teenagers today struggle to live a healthy lifestyle. This presentation give teens some tips on how to eat healthy and live a balanced, stress-free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ck a Lunch with a Pu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nch time in the school cafeteria is most likely a time where eating lunch is not a priority and socializing with your friends is. Here are some easy to eat, healthy lunch ideas to help you finish your school day strong and energ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gg or tuna salad sandwich on whole wheat br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key wrap with lettuce, tomato, and che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ad with lots of colorful veg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gurt with fru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tisfying Supp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a small salad to each of the delicious ideas below and you will be able to finish your night strong and energ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r fry vegetables with shrimp or chic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cken fajitas with guacamole and sal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iled salmon or chicken with vege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ked potato with vegetable chili topp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mart Snacking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healthy snacking a part of your everyday routine with the following healthy snack id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wheat pretz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ce cakes with peanut bu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fat yogurt with fresh fru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sh cut veg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l m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14:38:38Z</dcterms:created>
  <dc:creator>Phil Schneider</dc:creator>
  <dc:description/>
  <dc:language>en-US</dc:language>
  <cp:lastModifiedBy>Phil Schneider</cp:lastModifiedBy>
  <dcterms:modified xsi:type="dcterms:W3CDTF">2013-05-14T09:09:13Z</dcterms:modified>
  <cp:revision>6</cp:revision>
  <dc:subject/>
  <dc:title>Slide 1</dc:title>
</cp:coreProperties>
</file>